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F928-159B-4D30-BBE2-6FC67D5BF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9C94-1C73-45E2-A8A2-3232F3EA7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289D31-91FC-477E-8EF1-9E45DF70B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CFB0D9-A648-4DB3-B27B-BF2F227DB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CA751C-12A0-4165-8382-1A1EF4B1D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2E680D-ADBE-4FB8-AD18-8F8567322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0C392E-6539-4590-B8F6-F5FEA01E2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8D7D96-5522-4D75-80FC-3B9FBB9F9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507552-DA5D-44C6-BDDF-6F2CF38E7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A83795-E7DF-4C94-AEB5-CE4F3E9F5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6C135F-E771-45F4-98B3-86F4D6817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285EC3-4C6B-4D19-BB31-BFC68C8B5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E4BC-D483-4D62-A8C8-7E7F59AC3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F03BC1-21D0-4F40-9E90-3C4ACF420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EA9D55-37CD-4B0E-9E3A-79104F36C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7BB8B9-6DA9-4333-B5DC-60A653B2A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455051-296D-465C-9144-9A0E2D919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7CB2E3-DE3B-4991-962D-7A17037A5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ED0DF9-58A8-4AA8-A9C9-63DFB3216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B2F898-29CE-424D-8F03-AF48E8AB2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0D97D2-39AD-4798-A58A-7983B040D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585CC3-D838-45A3-B9D2-ADD655DDF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B3E171-4558-4D33-BE07-893E27258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2826-50E1-4863-8912-360F5E2C1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1D653C-FCC8-4779-8008-BFF7BB4C3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392A31-F876-4754-BDD0-3AFEEA31B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D952F6-0709-487D-A0B9-01A4401F0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B1AD2F-B3A5-4E34-8AF5-2D38EECBD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E4E46E-F166-448E-9776-7455189C6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BFFBBF-711B-4099-BA5C-AE17BB75F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0D5F35-9F5E-4E2F-BD83-6D7F046FD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E4B00B-DBC5-4046-9EB3-B468DC4E8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A71B9C-6CD7-4E62-B26E-63B954BDD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9E72E7-83F8-4ACD-8699-F51A7EEFE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4CD91-2EFE-4BD8-89B5-1DE72C9EA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E8B715-B3B1-463A-92E0-D2005847E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EB98F1-92BF-4D9C-B5D7-DE2B8D5F7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F705FB-E5AB-4FF1-AB59-218AF49A9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FD5192-B487-457D-87B7-B11760BA4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39754B-E684-4E65-9BB1-30514E5EB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144D2A-4E3E-49D6-947D-563251FB0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B7D85D-4623-40AB-B298-2828A1D2F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D491AA-3EDC-4E75-AE9C-141BBECA2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D06185-4E1A-47B6-9789-0983A95F6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8C1607-816D-43C5-AF51-98872ABCF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62C3B-FC0F-407E-9332-4702D0038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BCA2AF-BFAB-4F96-93B1-11F5FD619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604C37-D823-4CB8-8E0D-8D3F384D9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1AB31C-5D42-4118-B2CF-3125784AA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1221CC-6A07-4C2C-ABF3-F89469829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F2D40F-0FA2-4E0F-B7DE-99DC7F9DA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8FE7C-D287-4FFF-9EB0-B6C18897F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26832-944C-45C5-8C67-A9D0DE6DC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E5264-7768-410C-8261-45FC91CD7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90CF7-298D-4568-A88B-7E9075E33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82A43-674B-4A5C-ACBF-48E81DAA4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FD5B-60C5-4332-95CB-6B554C731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02D4D-FA09-41DC-9064-EDAA3C420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132A8-104B-4E95-AD39-36C2C0F3E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CED56-BD73-4EF5-9EB7-644845D48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C0AA5-DD92-4719-9DE0-9DBDD0A6A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CA926-DCBE-463C-8A1A-68C6BCEDF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E424F-6A53-4D04-9048-7B9F8C137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71CC3-0E61-427B-9FAE-7487E5772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75EF8-0860-4847-B5D8-35F045EF3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E09EF-AC3B-4711-B702-E357440BD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02760-311D-4A5A-8ADF-9B9D44E16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26D3-E383-4738-89B5-43C345BAC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935F6-80D9-4F1E-8604-96900744F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70CF1-5A77-4A10-A6B9-903675425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CCB8E-21AF-4099-AFBC-C6AE5210B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5F9EB-2895-47E5-BF6F-819F67ABA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CD798-3BA2-4FF0-A01A-A1BDE6679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7D5E6-FA5B-4146-980D-0382C1355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E170D-381D-4FD0-A0BB-E0B2C9496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1154B-686D-4CF7-A900-648A0EC85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6DF66-B3FA-421C-9AE2-F25E3B216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F8A989-5968-4975-8D8C-5FF2B049A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AA5A-2F2D-4964-B460-57A8061BC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2423A6-D566-4F6F-BDB9-6CDDD25D8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67377-8763-4289-9334-9D7AE9A91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45F11C-9A54-414A-A96D-EF7E14985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FF82E-24FD-4E79-87BC-F4100F191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A7A17F-7D05-4B84-8FE4-2674BAD3E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8BA71-755F-4E22-B3CC-715F439D2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83082-4474-4D04-A843-D6507C623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92461-3A16-426F-902A-67F18235A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21E43-AA47-4B59-9FA7-0264CB01C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099E35-7C4A-4A59-AD0C-D6474D4F6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7E95-A435-47CA-B0A7-505D0203B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65FB89-4B31-40D6-958D-0BBD13E9D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8E24D9-8876-49EC-959E-137EACEAA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D9D83B-D554-440A-81D1-C980312E9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78E375-F928-4DDC-AA9D-6FE283E85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A55C37-43C2-4C2C-95E3-05A3B3E00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2FFEB5-24ED-4FD7-8203-67FE0C260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695C21-7525-4B9B-AC82-47E5642EE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584FAB-D42F-43C2-897D-ADC934DA5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FB5D9B-9131-4BC7-AE98-BCE4DBC14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E6A21D-FACB-4903-AC5D-0F62464EF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A9AD-9783-4A8C-B0D7-146FFDD47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3DCFC2-24E5-4AB5-BA67-CF9BF90F1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E3455B-503A-452B-8ADA-AD3A92898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945D95-66D3-4FEB-9126-B076E2115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37C748-F519-4BD9-8824-2B011D0BC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55D45E-C337-4DB8-A471-D0C23E9EA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401406-A49A-48F5-91FE-9438C72C0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ECDBC3-4BC2-4460-A07E-9EB78232F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356AE1-0C4C-4574-9A90-88E8D6444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FD6431-25DB-4BB0-989B-CC54B564A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C6523F-AA9B-4661-B6DD-CF70D6FB1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3D8C-A5A7-4C53-A030-170061883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56BDCC-61E5-4D48-9E82-DFF304D13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CE0CA4-A04A-4A91-B90A-FAEAB10CA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72D3C4-4A81-40EC-A804-613BB33FD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A6D085-6893-43E8-A918-D5AFE5175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581A3A-1070-4EC5-ADA1-E09FED521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8C47FB-BC96-4C07-8A91-3ACF499C6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C27640-873D-45BE-ADCD-C6B38D532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94E573-B284-48DC-BB71-E2EFDBA19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44CA54-9624-4F39-93D4-179F6CC2D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D3AFEA-60A2-4DD3-B477-AE049F86E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93C7-F8EE-41D0-B698-4AA8B46DC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533F69-A192-4A31-9919-37C6C0FE7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9AC241-4AD0-4C5A-8253-191DD2E4E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C6B984-18F5-4375-8C66-A26C68CD1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781600-0BC9-4FD5-95F8-4B65C648C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F86F13-A7BF-444D-9B8D-0C4C13C96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176EAB-C1CE-4886-99E6-006278705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B0FE02-EFBC-4A3A-B847-6EE04BA17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9AC2AA-AE9D-4875-B114-64668EFF7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F683BF-A327-4A11-9396-8EFD90F5D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F5E68A-48E8-43A9-9D2F-E4399B207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0AF4-C1B2-4EF8-9B8E-5C3A7575F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142E8C-D393-46C9-B8C0-0C7B1F1FE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625FED-D902-4E85-8DF6-89E8932E4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0CC204-9C1A-4A5F-8D1A-21181D531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D27B35-F21C-4A2C-BAF9-DD07871BE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011E59-ACF8-4836-9573-86C1006AC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B7C59D-8AC1-4738-9313-3B3CED852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0FED8A-B401-4D47-A8E9-2479FD944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B776D3-FE69-40F8-A08F-9B48FA100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AD12BB-C6E1-4FB8-90E6-DCEEC00BE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7E5928-928E-4D29-8CFD-CECC4D1FA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6505D-6B6A-494F-B9D8-B46065190A5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118CD-CD87-4AC1-A913-F074A2A956F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8F6F9-27CA-495F-856B-5D45AD0E3ED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5CEAA-4BDC-4A1A-8295-C48CDC4DDA5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EC351-39EC-4646-836D-145F6C15B56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1661C-204F-480F-8E93-678A8AB736C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489CB-4027-4D31-845F-FC91B3C6BC4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71BCA-A956-45A7-A893-8CBE92DB39D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8638A-9099-44EB-9FBD-D311B342F6F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35D00-0128-44FD-BDC2-57B937BEA3E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3FE64-2CCD-4BA6-BCE7-03E6AB9DFD0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E84E5-CBD3-4FFE-8E22-B7687A9A634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94 Príď, Svätý Duchu, k ná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íď, Svätý Duchu, k n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lam viery roznieť v ná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lahozvesť vzácn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môž niesť a šíriť svetla j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íď, Svätý Duchu, k n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lej do sŕdc vrúcny cit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o by pre dielo záchrany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ás mohol zjednoti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íď, Svätý Duchu, k n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voji vždy máme by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d teba žiadny sveta zvod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ás nemá odlúči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íď, Svätý Duchu, k n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ernosti stálosť da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o si v nás z lásky započa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o slávne dokonaj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1-30T17:58:38Z</dcterms:modified>
  <cp:revision>20</cp:revision>
  <dc:subject/>
  <dc:title>Je veľký náš Pán, on slávy je Kráľ Nech do všetkých strán  spev vrúcnych znie chvál.</dc:title>
</cp:coreProperties>
</file>